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627-0D34-4B3D-AEEC-20FDEE90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32F-629B-4DFE-B2B0-4D3BA037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84C-1272-40B4-94DE-ABC98FF6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D3C-E8B9-4CDC-AAA8-C6B53501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8D3C-696B-4D3E-8FBF-1407F831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EABF-FA2B-41F6-871D-CC6992B6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B0E9-CF44-4D73-B515-536D6BC7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99C1-D4BA-4C52-B120-6B1107EF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3922-F332-408C-A3FB-5499B202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26FF-4043-4119-9AC7-7F8122AE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E7B8-7F0B-411C-A868-36D9C8C6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32F-4E40-4633-A197-D4B87994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AB06-2CB2-4847-93B9-743AC889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A57C-6E46-45A7-AD0F-9C7909D5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24DC-929A-4B94-BB19-D730ABC8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00AF-E1FA-41E2-BCDB-112B50DE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3EEC-77CA-441E-AF37-D3B1768E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592-35D8-4C7F-AB7E-250DD399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B59-5C9A-4E02-AFC9-B9577748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5AB-6F01-471E-BD28-B3225415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44B-3F9C-4063-80C6-8010E7EE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DD0-99FC-47FC-8201-BA8D05EC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096-CD44-4E4B-B612-1FCC83D8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B6D-A269-4E63-9E0C-63A00D52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C25B-B043-428A-A474-47A8112F9E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678F-C4AA-4CCC-92CE-5E348D22C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9720" y="207144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4071600"/>
            <a:ext cx="51292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2680" y="1357200"/>
            <a:ext cx="73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roshkolu.ru/content/media/pic/std/1000000/248000/247659-a3befaa6af58cffa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500040" y="257184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Мои документы\Мои рисунки\девочка.jpeg"/>
          <p:cNvPicPr/>
          <p:nvPr/>
        </p:nvPicPr>
        <p:blipFill>
          <a:blip r:embed="rId4"/>
          <a:stretch/>
        </p:blipFill>
        <p:spPr>
          <a:xfrm>
            <a:off x="500040" y="3786120"/>
            <a:ext cx="10652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Comp</cp:lastModifiedBy>
  <dcterms:modified xsi:type="dcterms:W3CDTF">2011-07-28T11:14:53Z</dcterms:modified>
  <cp:revision>4</cp:revision>
  <dc:subject/>
  <dc:title>Слайд 1</dc:title>
</cp:coreProperties>
</file>