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9C2A-3081-45CB-8860-3B6E8F4C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355-5961-4ACE-978D-86875C6A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864-222E-4088-BAB6-7249B101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8A8-F052-4242-8942-07F5162A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6C64-3AF4-4F85-BA37-E63C4E7C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74F9-31D9-443D-A54A-EDC67146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70B3-064C-471C-BDBC-EFF96B2D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1F12-4E27-4293-A014-9E230BBB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8878-EA50-4EB4-86F3-8C370831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639A-2982-4279-A836-6B0FE771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E0C0-404F-48AA-9842-18B53672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123-9927-45A7-B82B-653978F3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B032-871B-4A42-B5C1-57D357EC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6BD0-C09A-4750-81C2-8CA77668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6ED4-654D-4D5D-8293-04E59891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FAE4-480E-43D6-85EF-C0ED0DFC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FF1E-9EAB-45C3-92B8-F786CDBD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FC9-9C12-403B-8DEB-A9C85899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492-3D06-46CA-9E33-953CBEFE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5C6-AEF4-43E2-ACAF-B8A1F203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2F5-332A-4C9F-AAC4-DDEAE1CC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B0B-1D0D-4FA2-BEC6-44DD0154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A1C5-BC4F-429A-AFF3-C92B88A4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F73-3546-4873-ACC4-40C75BBE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2813-0F3F-4681-BD31-E3AC779AE0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57CF-9BBA-40EA-B58B-88BB89D14F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714320"/>
            <a:ext cx="450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 rot="222000">
            <a:off x="2207520" y="3357000"/>
            <a:ext cx="450036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1268280" y="225360"/>
            <a:ext cx="7534440" cy="99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85600" y="1428840"/>
            <a:ext cx="69008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tineydgers.at.ua/sova3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endem.ru/uploads/posts/2010-09/1285569710_osennie-listya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burla.su/uploads/posts/2010-05/1274360367_poslednii_zvonok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Мои документы\Мои рисунки\images сова.jpeg"/>
          <p:cNvPicPr/>
          <p:nvPr/>
        </p:nvPicPr>
        <p:blipFill>
          <a:blip r:embed="rId2"/>
          <a:stretch/>
        </p:blipFill>
        <p:spPr>
          <a:xfrm>
            <a:off x="642960" y="128592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:\Мои документы\Мои рисунки\LOGO.GIF"/>
          <p:cNvPicPr/>
          <p:nvPr/>
        </p:nvPicPr>
        <p:blipFill>
          <a:blip r:embed="rId3"/>
          <a:stretch/>
        </p:blipFill>
        <p:spPr>
          <a:xfrm>
            <a:off x="571680" y="2357280"/>
            <a:ext cx="1143000" cy="744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"/>
          <p:cNvPicPr/>
          <p:nvPr/>
        </p:nvPicPr>
        <p:blipFill>
          <a:blip r:embed="rId4"/>
          <a:stretch/>
        </p:blipFill>
        <p:spPr>
          <a:xfrm>
            <a:off x="428760" y="3571920"/>
            <a:ext cx="1214280" cy="928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"/>
          <p:cNvPicPr/>
          <p:nvPr/>
        </p:nvPicPr>
        <p:blipFill>
          <a:blip r:embed="rId5"/>
          <a:stretch/>
        </p:blipFill>
        <p:spPr>
          <a:xfrm>
            <a:off x="642960" y="5072040"/>
            <a:ext cx="9288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16:53:57Z</dcterms:created>
  <dc:creator>Comp</dc:creator>
  <dc:description/>
  <dc:language>en-US</dc:language>
  <cp:lastModifiedBy>Comp</cp:lastModifiedBy>
  <dcterms:modified xsi:type="dcterms:W3CDTF">2011-07-29T17:01:45Z</dcterms:modified>
  <cp:revision>2</cp:revision>
  <dc:subject/>
  <dc:title>Слайд 1</dc:title>
</cp:coreProperties>
</file>